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3.png" ContentType="image/png"/>
  <Override PartName="/ppt/media/image7.wmf" ContentType="image/x-wmf"/>
  <Override PartName="/ppt/media/image12.wmf" ContentType="image/x-wmf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017360" y="410868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644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2404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3036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01736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2404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3036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006200" y="890280"/>
            <a:ext cx="74214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81644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017360" y="410868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81644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2404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3036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01736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52404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3036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06200" y="890280"/>
            <a:ext cx="74214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644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43080" indent="-343080">
              <a:buClr>
                <a:srgbClr val="39536b"/>
              </a:buClr>
              <a:buFont typeface="Arial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2" marL="343080" indent="-343080">
              <a:buClr>
                <a:srgbClr val="39536b"/>
              </a:buClr>
              <a:buFont typeface="Arial"/>
              <a:buChar char="-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3" marL="343080" indent="-343080">
              <a:buClr>
                <a:srgbClr val="39536b"/>
              </a:buClr>
              <a:buFont typeface="Times New Roman"/>
              <a:buChar char="–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4" marL="343080" indent="-343080"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5" marL="343080" indent="-343080"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6" marL="343080" indent="-343080"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0800" y="6566040"/>
            <a:ext cx="230724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tIns="46440" bIns="46440" anchor="t">
            <a:sp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2008 by Carnegie Mellon University</a:t>
            </a:r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4119840" y="6567480"/>
            <a:ext cx="115488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tIns="46440" bIns="46440" anchor="t">
            <a:sp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September 2008</a:t>
            </a:r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6215040" y="6564240"/>
            <a:ext cx="2928960" cy="3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t">
            <a:spAutoFit/>
          </a:bodyPr>
          <a:p>
            <a:pPr algn="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Executive Strategy Seminar - Module 1 - </a:t>
            </a:r>
            <a:fld id="{132CC13A-FF3F-4E5F-AA4F-E37EE7DF8B76}" type="slidenum">
              <a:rPr b="1" lang="en-US" sz="1000" spc="-1" strike="noStrike">
                <a:solidFill>
                  <a:srgbClr val="39536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pic>
        <p:nvPicPr>
          <p:cNvPr id="5" name="Picture 7" descr="Logo-Rebuilt-Color-crop-reduced"/>
          <p:cNvPicPr/>
          <p:nvPr/>
        </p:nvPicPr>
        <p:blipFill>
          <a:blip r:embed="rId2"/>
          <a:stretch/>
        </p:blipFill>
        <p:spPr>
          <a:xfrm>
            <a:off x="17640" y="146160"/>
            <a:ext cx="3979800" cy="544320"/>
          </a:xfrm>
          <a:prstGeom prst="rect">
            <a:avLst/>
          </a:prstGeom>
          <a:ln w="0">
            <a:noFill/>
          </a:ln>
        </p:spPr>
      </p:pic>
      <p:sp>
        <p:nvSpPr>
          <p:cNvPr id="6" name="Line 8"/>
          <p:cNvSpPr/>
          <p:nvPr/>
        </p:nvSpPr>
        <p:spPr>
          <a:xfrm>
            <a:off x="1004760" y="1460520"/>
            <a:ext cx="7435800" cy="0"/>
          </a:xfrm>
          <a:prstGeom prst="line">
            <a:avLst/>
          </a:prstGeom>
          <a:ln w="28440">
            <a:solidFill>
              <a:srgbClr val="97b6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2"/>
          <p:cNvSpPr/>
          <p:nvPr/>
        </p:nvSpPr>
        <p:spPr>
          <a:xfrm>
            <a:off x="1058760" y="4967280"/>
            <a:ext cx="73137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This material is approved for public release. Distribution is limited by the Software Engineering Institute to attendees.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Sponsored by the U.S. Department of Defense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2008 by Carnegie Mellon University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4680" y="4680"/>
            <a:ext cx="9129960" cy="6843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5" name="Line 4"/>
          <p:cNvSpPr/>
          <p:nvPr/>
        </p:nvSpPr>
        <p:spPr>
          <a:xfrm>
            <a:off x="1017720" y="730080"/>
            <a:ext cx="7413480" cy="0"/>
          </a:xfrm>
          <a:prstGeom prst="line">
            <a:avLst/>
          </a:prstGeom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6" name="Rectangle 5"/>
          <p:cNvSpPr/>
          <p:nvPr/>
        </p:nvSpPr>
        <p:spPr>
          <a:xfrm>
            <a:off x="4118400" y="6567480"/>
            <a:ext cx="115488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tIns="46440" bIns="46440" anchor="t">
            <a:sp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September 2008</a:t>
            </a:r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7" name="Text Box 7"/>
          <p:cNvSpPr/>
          <p:nvPr/>
        </p:nvSpPr>
        <p:spPr>
          <a:xfrm>
            <a:off x="938880" y="731880"/>
            <a:ext cx="21261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600" rIns="102600" tIns="51480" bIns="51480" anchor="t">
            <a:spAutoFit/>
          </a:bodyPr>
          <a:p>
            <a:pPr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</a:rPr>
              <a:t>Pittsburgh, PA 15213-3890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</p:txBody>
      </p:sp>
      <p:pic>
        <p:nvPicPr>
          <p:cNvPr id="48" name="Picture 8" descr="Logo-Rebuilt-Color-crop-reduced"/>
          <p:cNvPicPr/>
          <p:nvPr/>
        </p:nvPicPr>
        <p:blipFill>
          <a:blip r:embed="rId2"/>
          <a:stretch/>
        </p:blipFill>
        <p:spPr>
          <a:xfrm>
            <a:off x="17640" y="146160"/>
            <a:ext cx="3979800" cy="54432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9"/>
          <p:cNvSpPr/>
          <p:nvPr/>
        </p:nvSpPr>
        <p:spPr>
          <a:xfrm>
            <a:off x="6215040" y="6564240"/>
            <a:ext cx="2928960" cy="3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t">
            <a:spAutoFit/>
          </a:bodyPr>
          <a:p>
            <a:pPr algn="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Executive Strategy Seminar - Module 1 - </a:t>
            </a:r>
            <a:fld id="{6CF3C86E-4ED5-4B3F-8F73-74732F05CC78}" type="slidenum">
              <a:rPr b="1" lang="en-US" sz="1000" spc="-1" strike="noStrike">
                <a:solidFill>
                  <a:srgbClr val="39536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body"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43080" indent="-343080">
              <a:buClr>
                <a:srgbClr val="39536b"/>
              </a:buClr>
              <a:buFont typeface="Arial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2" marL="343080" indent="-343080">
              <a:buClr>
                <a:srgbClr val="39536b"/>
              </a:buClr>
              <a:buFont typeface="Arial"/>
              <a:buChar char="-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3" marL="343080" indent="-343080">
              <a:buClr>
                <a:srgbClr val="39536b"/>
              </a:buClr>
              <a:buFont typeface="Times New Roman"/>
              <a:buChar char="–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4" marL="343080" indent="-343080"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5" marL="343080" indent="-343080"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6" marL="343080" indent="-343080"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hyperlink" Target="https://creativecommons.org/licenses/by/4.0/" TargetMode="External"/><Relationship Id="rId4" Type="http://schemas.openxmlformats.org/officeDocument/2006/relationships/image" Target="../media/image3.png"/><Relationship Id="rId5" Type="http://schemas.openxmlformats.org/officeDocument/2006/relationships/hyperlink" Target="https://creativecommons.org/licenses/by/4.0/" TargetMode="External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2"/>
          <p:cNvSpPr/>
          <p:nvPr/>
        </p:nvSpPr>
        <p:spPr>
          <a:xfrm>
            <a:off x="1028880" y="2050920"/>
            <a:ext cx="29145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9" name="Text Box 13"/>
          <p:cNvSpPr/>
          <p:nvPr/>
        </p:nvSpPr>
        <p:spPr>
          <a:xfrm>
            <a:off x="966960" y="1893960"/>
            <a:ext cx="7751520" cy="166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3200" spc="-1" strike="noStrike">
                <a:solidFill>
                  <a:srgbClr val="39536b"/>
                </a:solidFill>
                <a:latin typeface="Arial Narrow"/>
              </a:rPr>
              <a:t>TSP Executive Strategy Seminar</a:t>
            </a:r>
            <a:endParaRPr b="0" lang="en-US" sz="3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3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4500" spc="-1" strike="noStrike">
                <a:solidFill>
                  <a:srgbClr val="39536b"/>
                </a:solidFill>
                <a:latin typeface="Arial Narrow"/>
              </a:rPr>
              <a:t>Exercise 4: Back-up Data</a:t>
            </a:r>
            <a:endParaRPr b="0" lang="en-US" sz="45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11" descr=""/>
          <p:cNvPicPr/>
          <p:nvPr/>
        </p:nvPicPr>
        <p:blipFill>
          <a:blip r:embed="rId1"/>
          <a:stretch/>
        </p:blipFill>
        <p:spPr>
          <a:xfrm>
            <a:off x="538200" y="1038240"/>
            <a:ext cx="8143920" cy="53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9" descr=""/>
          <p:cNvPicPr/>
          <p:nvPr/>
        </p:nvPicPr>
        <p:blipFill>
          <a:blip r:embed="rId1"/>
          <a:stretch/>
        </p:blipFill>
        <p:spPr>
          <a:xfrm>
            <a:off x="538200" y="1038240"/>
            <a:ext cx="8150040" cy="53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9" descr=""/>
          <p:cNvPicPr/>
          <p:nvPr/>
        </p:nvPicPr>
        <p:blipFill>
          <a:blip r:embed="rId1"/>
          <a:stretch/>
        </p:blipFill>
        <p:spPr>
          <a:xfrm>
            <a:off x="538200" y="1038240"/>
            <a:ext cx="8102520" cy="535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Test Defect Estimate 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pic>
        <p:nvPicPr>
          <p:cNvPr id="113" name="Picture 17" descr=""/>
          <p:cNvPicPr/>
          <p:nvPr/>
        </p:nvPicPr>
        <p:blipFill>
          <a:blip r:embed="rId1"/>
          <a:stretch/>
        </p:blipFill>
        <p:spPr>
          <a:xfrm>
            <a:off x="1017720" y="1890720"/>
            <a:ext cx="7451640" cy="33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Estimating Test Defects - Lisa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or Lisa’s team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UMQ data indicate the team is gathering defect data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However, Lisa’s team is not meeting its quality goal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unit test defects are 2.24 times the number planned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estimate is that integration and system test defects will also be 2.24 times the number planned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Estimating Test Defects - Jeff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Jeff’s team has not been recording all of its defect data so we must do the following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or defects injected, multiply phase time by injection rat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ind defects removed by using the yield for each phas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gnore defects injected before implementation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ince developers who use the PSP and gather defects data inject fewer defects, multiply these estimates by the following factors.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or additional design defects injected – 1.09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or additional coding defects injected – 1.53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Defects Injected – Jeff’s Team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pic>
        <p:nvPicPr>
          <p:cNvPr id="119" name="Picture 13" descr=""/>
          <p:cNvPicPr/>
          <p:nvPr/>
        </p:nvPicPr>
        <p:blipFill>
          <a:blip r:embed="rId1"/>
          <a:stretch/>
        </p:blipFill>
        <p:spPr>
          <a:xfrm>
            <a:off x="530280" y="2185920"/>
            <a:ext cx="8219880" cy="164628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10"/>
          <p:cNvSpPr/>
          <p:nvPr/>
        </p:nvSpPr>
        <p:spPr>
          <a:xfrm>
            <a:off x="796680" y="5899320"/>
            <a:ext cx="1195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9536b"/>
                </a:solidFill>
                <a:latin typeface="Arial"/>
              </a:rPr>
              <a:t>*</a:t>
            </a:r>
            <a:endParaRPr b="0" lang="en-US" sz="24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21" name="Text Box 11"/>
          <p:cNvSpPr/>
          <p:nvPr/>
        </p:nvSpPr>
        <p:spPr>
          <a:xfrm>
            <a:off x="919080" y="6067440"/>
            <a:ext cx="7468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9536b"/>
                </a:solidFill>
                <a:latin typeface="Arial"/>
              </a:rPr>
              <a:t>When developers do not record defect data, they inject more defects than when they do.</a:t>
            </a:r>
            <a:endParaRPr b="0" lang="en-US" sz="14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Defects Removed – Jeff’s Team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pic>
        <p:nvPicPr>
          <p:cNvPr id="123" name="Picture 10" descr=""/>
          <p:cNvPicPr/>
          <p:nvPr/>
        </p:nvPicPr>
        <p:blipFill>
          <a:blip r:embed="rId1"/>
          <a:stretch/>
        </p:blipFill>
        <p:spPr>
          <a:xfrm>
            <a:off x="378000" y="2019240"/>
            <a:ext cx="8240400" cy="37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Test Time per Defect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Based on data from George’s team, the time required to remove defects in integration and system test is as follow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ntegration test time: 14.27 hours per defect removed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ystem test time:  25 hours per defect removed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Weekly Task Time 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weekly task time for the teams is as follow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n 20 weeks, Jeff’s team has worked 1,698.3 task hours.  That is 84.92 task hours per week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Lisa’s team has worked 1,679.9 task hours in 22 weeks for an average of 76.36 task hours per week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401400" y="1081080"/>
            <a:ext cx="8319960" cy="501480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01760" y="39600"/>
            <a:ext cx="4093920" cy="1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marL="32904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000" spc="-1" strike="noStrike">
              <a:solidFill>
                <a:srgbClr val="39536b"/>
              </a:solidFill>
              <a:latin typeface="Arial"/>
              <a:ea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503920" y="-360"/>
            <a:ext cx="639720" cy="63972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3"/>
          <p:cNvSpPr/>
          <p:nvPr/>
        </p:nvSpPr>
        <p:spPr>
          <a:xfrm>
            <a:off x="0" y="-591840"/>
            <a:ext cx="9144000" cy="11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37840" tIns="0" bIns="6346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             </a:t>
            </a:r>
            <a:br>
              <a:rPr sz="1800"/>
            </a:b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</p:txBody>
      </p:sp>
      <p:pic>
        <p:nvPicPr>
          <p:cNvPr id="95" name="Picture 4" descr="Creative Commons Licens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394400" y="5800680"/>
            <a:ext cx="838440" cy="2952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8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31920" y="950760"/>
            <a:ext cx="8631000" cy="470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Test Time Estimate – Lisa 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estimated test time for Lisa’s team is as follow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ntegration test: 30.7 defects at 14.27 hours each is 438.1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ask hour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ystem test: 15.0 defects at 25 hours each is 375 task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hour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otal estimated test time is 813.1 hour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Test Time Estimate – Jeff 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or Jeff’s team, the estimated test time is as follow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ntegration test: 123.7 defects at 14.27 hours = 1,765.4 task hour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ystem test: 52.2 defects at 25 hours each = 1305 task hour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otal estimated test time is 3,070.4 task hour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Test Schedule Estimate - Lisa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998280" y="169380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Lisa’s team planned on 362.9 hours of testing, so the 813.1 test time estimate adds 450.2 task hour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t 76.36 task hours per week, this adds 5.9 weeks to the EV estimate of 19.5 weeks, ending in 25. 4 week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Test Schedule Estimate - Jeff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998280" y="170640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Jeff’s team planned on 288 hours of testing, so the  3,070.4 hour estimate adds 2,782.4 hours to that plan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t 84.92 task hours per week, this will add 32.8 weeks to the EV estimate of 18.6 weeks, giving 51.4 more week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Quality Assurance Concern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17720" y="1709640"/>
            <a:ext cx="7184880" cy="17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Based on data from prior projects, Quality Assurance believes that insufficient time is planned for testing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pic>
        <p:nvPicPr>
          <p:cNvPr id="99" name="Picture 15" descr=""/>
          <p:cNvPicPr/>
          <p:nvPr/>
        </p:nvPicPr>
        <p:blipFill>
          <a:blip r:embed="rId1"/>
          <a:stretch/>
        </p:blipFill>
        <p:spPr>
          <a:xfrm>
            <a:off x="1041480" y="2546280"/>
            <a:ext cx="7057800" cy="39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998280" y="1693800"/>
            <a:ext cx="7289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Lisa’s team has earned 53 EV points in 22 weeks. 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is is a rate of 2.409 EV per week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pic>
        <p:nvPicPr>
          <p:cNvPr id="101" name="Picture 5" descr=""/>
          <p:cNvPicPr/>
          <p:nvPr/>
        </p:nvPicPr>
        <p:blipFill>
          <a:blip r:embed="rId1"/>
          <a:stretch/>
        </p:blipFill>
        <p:spPr>
          <a:xfrm>
            <a:off x="695160" y="1324080"/>
            <a:ext cx="7751880" cy="23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974880" y="1429920"/>
            <a:ext cx="7037280" cy="459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4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4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4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4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4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4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4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4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400" spc="-1" strike="noStrike">
                <a:solidFill>
                  <a:srgbClr val="39536b"/>
                </a:solidFill>
                <a:latin typeface="Arial"/>
              </a:rPr>
              <a:t>Jeff’s team has earned 51.8 EV in 20 weeks.</a:t>
            </a:r>
            <a:endParaRPr b="0" lang="en-US" sz="24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4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400" spc="-1" strike="noStrike">
                <a:solidFill>
                  <a:srgbClr val="39536b"/>
                </a:solidFill>
                <a:latin typeface="Arial"/>
              </a:rPr>
              <a:t>This is a rate of 2.59 EV per week.</a:t>
            </a:r>
            <a:endParaRPr b="0" lang="en-US" sz="24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400" spc="-1" strike="noStrike">
              <a:solidFill>
                <a:srgbClr val="39536b"/>
              </a:solidFill>
              <a:latin typeface="Arial"/>
            </a:endParaRPr>
          </a:p>
        </p:txBody>
      </p:sp>
      <p:pic>
        <p:nvPicPr>
          <p:cNvPr id="103" name="Picture 13" descr=""/>
          <p:cNvPicPr/>
          <p:nvPr/>
        </p:nvPicPr>
        <p:blipFill>
          <a:blip r:embed="rId1"/>
          <a:stretch/>
        </p:blipFill>
        <p:spPr>
          <a:xfrm>
            <a:off x="698400" y="1320840"/>
            <a:ext cx="7793280" cy="232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EV Schedule Estimate 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pic>
        <p:nvPicPr>
          <p:cNvPr id="105" name="Picture 8" descr=""/>
          <p:cNvPicPr/>
          <p:nvPr/>
        </p:nvPicPr>
        <p:blipFill>
          <a:blip r:embed="rId1"/>
          <a:stretch/>
        </p:blipFill>
        <p:spPr>
          <a:xfrm>
            <a:off x="201600" y="2128680"/>
            <a:ext cx="8371080" cy="18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6" descr=""/>
          <p:cNvPicPr/>
          <p:nvPr/>
        </p:nvPicPr>
        <p:blipFill>
          <a:blip r:embed="rId1"/>
          <a:stretch/>
        </p:blipFill>
        <p:spPr>
          <a:xfrm>
            <a:off x="527040" y="1046160"/>
            <a:ext cx="8109000" cy="534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7" descr=""/>
          <p:cNvPicPr/>
          <p:nvPr/>
        </p:nvPicPr>
        <p:blipFill>
          <a:blip r:embed="rId1"/>
          <a:stretch/>
        </p:blipFill>
        <p:spPr>
          <a:xfrm>
            <a:off x="500040" y="1054080"/>
            <a:ext cx="8129520" cy="53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7" descr=""/>
          <p:cNvPicPr/>
          <p:nvPr/>
        </p:nvPicPr>
        <p:blipFill>
          <a:blip r:embed="rId1"/>
          <a:stretch/>
        </p:blipFill>
        <p:spPr>
          <a:xfrm>
            <a:off x="527040" y="1054080"/>
            <a:ext cx="8088480" cy="53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15:03:13Z</dcterms:created>
  <dc:creator>Daniel Burton</dc:creator>
  <dc:description/>
  <cp:keywords/>
  <dc:language>en-US</dc:language>
  <cp:lastModifiedBy>wrn_loc_adm</cp:lastModifiedBy>
  <cp:lastPrinted>2001-07-23T13:49:01Z</cp:lastPrinted>
  <dcterms:modified xsi:type="dcterms:W3CDTF">2018-09-06T00:17:53Z</dcterms:modified>
  <cp:revision>55</cp:revision>
  <dc:subject>24 July 2001 / 3:30pm</dc:subject>
  <dc:title>PowerPoint Presentation</dc:title>
</cp:coreProperties>
</file>